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1E32-1F94-4F90-8615-7F5B1D836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E3E2-B852-45F1-93CC-55EEF1C3B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DF77-B2AA-41C1-8298-BB97225E4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4F08-E772-401F-878D-EDC550A9C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D4D26-0F06-42A2-A869-51C3BB6EE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BC949-960F-4D09-AE75-A1CB6054C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C1489-708B-4098-97AC-6EFBB5ECC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C8E41-5087-4233-B97B-34A9744AD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5F96B-C2B9-4BE7-B160-D6A118A6C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42C24-7998-4BB7-9028-118142335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CB52F-6F87-4DC0-94A7-7DB2648AF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BB27-D0B6-4068-B435-A6B2928DE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4CBE1-B8AD-4826-A315-216D27299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0051E-146B-4C15-AF9C-E03B6F892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F5307-337C-4796-843F-0FA2E4172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0867E-F906-4BD1-AE72-02A1046F6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0D7C5-CD4D-456C-816E-5EF82D462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00D94-A62B-4CE9-8AAE-00CC0AF3E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6D358-3612-4CEC-9335-0E843BED0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A4846-CD5E-4526-BFCE-85C62D8E5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876B7-CF3E-438A-896A-BDA54D1AB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D9026-B909-4AC0-B9C9-985779B53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D91E-7C6D-4CFF-9098-5F4AAAF34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544EF-D7E6-4FF6-8840-045F65634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F6B47-2D8E-440A-BD82-767EE8682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BE086-1473-4C04-80AA-400C7A24D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3ADF3-D645-46A4-8222-BBDEE6C3E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E35AC-4772-42DC-B912-FC15A7C64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0C453-DFFC-4473-B6D7-2C9511496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AF4F6-B436-4ABF-A295-F5C4ECA96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D47492-D56C-4535-9985-3473D3DB6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6CE6D-DE3A-45D8-975C-9208A30C7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02104-28A1-4C20-94A8-67E13E42B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F1E2-5775-4281-8850-C64822DC4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92D5B-B6AD-4BD4-853B-5BF569FCF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07CED-B0A8-4B45-9953-824CEAEC5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4D098-DBBE-4BBE-8D9B-0FD070704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C2B96-D402-4CB1-9246-678D50EA6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EAEF3-F3DE-4EA1-AC27-417B1A1B6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BD318-65D3-441E-8104-F5C7880C0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5F60C-023B-4103-91E7-685C6323C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52668-A69D-46BB-A536-A09D10A8A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BAC09-0CAA-41D9-8B5E-AAD7506B9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B0AA33-92F9-4C57-8BE9-2EFA0C802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AB34-080C-4CD7-ABDE-58F2BDFEE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CF27D5-2488-43E1-8B5F-82CEA4BC3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FE97DB-E3DF-4514-82F9-C94867968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6BCB50-2227-4F76-B692-7B9D1F2C0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301AC7-5138-49D4-B2C0-7594310CA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6FD2C-2AC7-4EBA-84AF-ACECD76A4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8381D3-8840-480F-93AF-35BAB15D3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C18C69-0A06-4559-8D34-89E9DECB4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ACEE96-1B49-417C-8FC3-8FB990866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56A465-DD19-4A80-8856-9D8EDA91A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72B74D-3B0E-42C0-AF2F-CB9114530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AD8A-FB48-4F39-9900-D93A6D8FC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0D5E80-6E67-4CDB-B940-ED43AE533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C64F-6329-499E-B7E0-BD420FFB7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ABEE-43BA-4A51-8322-2F01214DA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9BF1-05FE-4DC9-B1C3-E14287627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 algn="r" rtl="1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 algn="r" rtl="1">
              <a:spcBef>
                <a:spcPts val="601"/>
              </a:spcBef>
              <a:buClr>
                <a:srgbClr val="8064a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 algn="r" rtl="1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 algn="r" rtl="1">
              <a:spcBef>
                <a:spcPts val="601"/>
              </a:spcBef>
              <a:buClr>
                <a:srgbClr val="8064a2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000" spc="-1" strike="noStrike">
                <a:solidFill>
                  <a:srgbClr val="1f497d"/>
                </a:solidFill>
                <a:latin typeface="Trebuchet MS"/>
                <a:ea typeface="Tahoma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000" spc="-1" strike="noStrike">
                <a:solidFill>
                  <a:srgbClr val="1f497d"/>
                </a:solidFill>
                <a:latin typeface="Trebuchet MS"/>
                <a:ea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100" spc="-1" strike="noStrike">
                <a:solidFill>
                  <a:srgbClr val="1f497d"/>
                </a:solidFill>
                <a:latin typeface="Trebuchet MS"/>
                <a:ea typeface="Tahoma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1C529-FFA9-4104-B2AD-F492A468B964}" type="slidenum">
              <a:rPr b="0" lang="ar-EG" sz="1100" spc="-1" strike="noStrike">
                <a:solidFill>
                  <a:srgbClr val="1f497d"/>
                </a:solidFill>
                <a:latin typeface="Trebuchet MS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 algn="r" rtl="1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 algn="r" rtl="1">
              <a:spcBef>
                <a:spcPts val="601"/>
              </a:spcBef>
              <a:buClr>
                <a:srgbClr val="8064a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 algn="r" rtl="1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 algn="r" rtl="1">
              <a:spcBef>
                <a:spcPts val="601"/>
              </a:spcBef>
              <a:buClr>
                <a:srgbClr val="8064a2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000" spc="-1" strike="noStrike">
                <a:solidFill>
                  <a:srgbClr val="ffffff"/>
                </a:solidFill>
                <a:latin typeface="Trebuchet MS"/>
                <a:ea typeface="Tahoma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000" spc="-1" strike="noStrike">
                <a:solidFill>
                  <a:srgbClr val="ffffff"/>
                </a:solidFill>
                <a:latin typeface="Trebuchet MS"/>
                <a:ea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100" spc="-1" strike="noStrike">
                <a:solidFill>
                  <a:srgbClr val="ffffff"/>
                </a:solidFill>
                <a:latin typeface="Trebuchet MS"/>
                <a:ea typeface="Tahoma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99DAA-9A54-459A-BFCD-0731BEC3A7D1}" type="slidenum">
              <a:rPr b="0" lang="ar-EG" sz="1100" spc="-1" strike="noStrike">
                <a:solidFill>
                  <a:srgbClr val="ffffff"/>
                </a:solidFill>
                <a:latin typeface="Trebuchet MS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 algn="r" rtl="1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 algn="r" rtl="1">
              <a:spcBef>
                <a:spcPts val="601"/>
              </a:spcBef>
              <a:buClr>
                <a:srgbClr val="8064a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 algn="r" rtl="1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 algn="r" rtl="1">
              <a:spcBef>
                <a:spcPts val="601"/>
              </a:spcBef>
              <a:buClr>
                <a:srgbClr val="8064a2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000" spc="-1" strike="noStrike">
                <a:solidFill>
                  <a:srgbClr val="1f497d"/>
                </a:solidFill>
                <a:latin typeface="Trebuchet MS"/>
                <a:ea typeface="Tahoma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000" spc="-1" strike="noStrike">
                <a:solidFill>
                  <a:srgbClr val="1f497d"/>
                </a:solidFill>
                <a:latin typeface="Trebuchet MS"/>
                <a:ea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100" spc="-1" strike="noStrike">
                <a:solidFill>
                  <a:srgbClr val="1f497d"/>
                </a:solidFill>
                <a:latin typeface="Trebuchet MS"/>
                <a:ea typeface="Tahoma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BF9BD-232A-4AC1-9B97-52967154612B}" type="slidenum">
              <a:rPr b="0" lang="ar-EG" sz="1100" spc="-1" strike="noStrike">
                <a:solidFill>
                  <a:srgbClr val="1f497d"/>
                </a:solidFill>
                <a:latin typeface="Trebuchet MS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eeece1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 algn="r" rtl="1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 algn="r" rtl="1">
              <a:spcBef>
                <a:spcPts val="601"/>
              </a:spcBef>
              <a:buClr>
                <a:srgbClr val="8064a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 algn="r" rtl="1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 algn="r" rtl="1">
              <a:spcBef>
                <a:spcPts val="601"/>
              </a:spcBef>
              <a:buClr>
                <a:srgbClr val="8064a2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000" spc="-1" strike="noStrike">
                <a:solidFill>
                  <a:srgbClr val="eeece1"/>
                </a:solidFill>
                <a:latin typeface="Trebuchet MS"/>
                <a:ea typeface="Tahoma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000" spc="-1" strike="noStrike">
                <a:solidFill>
                  <a:srgbClr val="eeece1"/>
                </a:solidFill>
                <a:latin typeface="Trebuchet MS"/>
                <a:ea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100" spc="-1" strike="noStrike">
                <a:solidFill>
                  <a:srgbClr val="eeece1"/>
                </a:solidFill>
                <a:latin typeface="Trebuchet MS"/>
                <a:ea typeface="Tahoma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6D53C-15C9-49C6-AB6A-5604E0B93DB3}" type="slidenum">
              <a:rPr b="0" lang="ar-EG" sz="1100" spc="-1" strike="noStrike">
                <a:solidFill>
                  <a:srgbClr val="eeece1"/>
                </a:solidFill>
                <a:latin typeface="Trebuchet MS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 algn="r" rtl="1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 algn="r" rtl="1">
              <a:spcBef>
                <a:spcPts val="601"/>
              </a:spcBef>
              <a:buClr>
                <a:srgbClr val="8064a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 algn="r" rtl="1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 algn="r" rtl="1">
              <a:spcBef>
                <a:spcPts val="601"/>
              </a:spcBef>
              <a:buClr>
                <a:srgbClr val="8064a2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000" spc="-1" strike="noStrike">
                <a:solidFill>
                  <a:srgbClr val="1f497d"/>
                </a:solidFill>
                <a:latin typeface="Trebuchet MS"/>
                <a:ea typeface="Tahoma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000" spc="-1" strike="noStrike">
                <a:solidFill>
                  <a:srgbClr val="1f497d"/>
                </a:solidFill>
                <a:latin typeface="Trebuchet MS"/>
                <a:ea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100" spc="-1" strike="noStrike">
                <a:solidFill>
                  <a:srgbClr val="1f497d"/>
                </a:solidFill>
                <a:latin typeface="Trebuchet MS"/>
                <a:ea typeface="Tahoma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15886-DFA6-4BF8-BAD5-E308880B76FA}" type="slidenum">
              <a:rPr b="0" lang="ar-EG" sz="1100" spc="-1" strike="noStrike">
                <a:solidFill>
                  <a:srgbClr val="1f497d"/>
                </a:solidFill>
                <a:latin typeface="Trebuchet MS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1"/>
          <a:stretch/>
        </p:blipFill>
        <p:spPr>
          <a:xfrm>
            <a:off x="2835360" y="4638600"/>
            <a:ext cx="6527880" cy="1189080"/>
          </a:xfrm>
          <a:prstGeom prst="rect">
            <a:avLst/>
          </a:prstGeom>
          <a:ln w="0">
            <a:noFill/>
          </a:ln>
        </p:spPr>
      </p:pic>
      <p:pic>
        <p:nvPicPr>
          <p:cNvPr id="221" name="Double Wave 4" descr=""/>
          <p:cNvPicPr/>
          <p:nvPr/>
        </p:nvPicPr>
        <p:blipFill>
          <a:blip r:embed="rId2"/>
          <a:stretch/>
        </p:blipFill>
        <p:spPr>
          <a:xfrm>
            <a:off x="3621240" y="476280"/>
            <a:ext cx="4979880" cy="1170000"/>
          </a:xfrm>
          <a:prstGeom prst="rect">
            <a:avLst/>
          </a:prstGeom>
          <a:ln w="0">
            <a:noFill/>
          </a:ln>
        </p:spPr>
      </p:pic>
      <p:pic>
        <p:nvPicPr>
          <p:cNvPr id="222" name="Up Ribbon 5" descr=""/>
          <p:cNvPicPr/>
          <p:nvPr/>
        </p:nvPicPr>
        <p:blipFill>
          <a:blip r:embed="rId3"/>
          <a:stretch/>
        </p:blipFill>
        <p:spPr>
          <a:xfrm>
            <a:off x="3571920" y="1809720"/>
            <a:ext cx="5078520" cy="10065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6" descr="quality.png"/>
          <p:cNvPicPr/>
          <p:nvPr/>
        </p:nvPicPr>
        <p:blipFill>
          <a:blip r:embed="rId4"/>
          <a:stretch/>
        </p:blipFill>
        <p:spPr>
          <a:xfrm>
            <a:off x="428760" y="571680"/>
            <a:ext cx="1857240" cy="16430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224" name="Rectangle 7" descr=""/>
          <p:cNvPicPr/>
          <p:nvPr/>
        </p:nvPicPr>
        <p:blipFill>
          <a:blip r:embed="rId5"/>
          <a:stretch/>
        </p:blipFill>
        <p:spPr>
          <a:xfrm>
            <a:off x="4133880" y="3011400"/>
            <a:ext cx="3803760" cy="1236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1"/>
          <p:cNvSpPr/>
          <p:nvPr/>
        </p:nvSpPr>
        <p:spPr>
          <a:xfrm>
            <a:off x="2160" y="216720"/>
            <a:ext cx="64108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53735"/>
                </a:solidFill>
                <a:latin typeface="Tekton Pro"/>
              </a:rPr>
              <a:t>7- Comments from external evaluator(s)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Response of course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53735"/>
                </a:solidFill>
                <a:latin typeface="Tekton Pro"/>
              </a:rPr>
              <a:t>8- Course enhancemen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2"/>
          <p:cNvSpPr/>
          <p:nvPr/>
        </p:nvSpPr>
        <p:spPr>
          <a:xfrm>
            <a:off x="142920" y="1000080"/>
            <a:ext cx="721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541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  <a:ea typeface="Tahoma"/>
              </a:rPr>
              <a:t>Progress on actions identified in the previous year’s action plan: This is the first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642960" y="1643040"/>
          <a:ext cx="7072200" cy="1643040"/>
        </p:xfrm>
        <a:graphic>
          <a:graphicData uri="http://schemas.openxmlformats.org/drawingml/2006/table">
            <a:tbl>
              <a:tblPr/>
              <a:tblGrid>
                <a:gridCol w="3535200"/>
                <a:gridCol w="353700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70c0"/>
                          </a:solidFill>
                          <a:latin typeface="Trebuchet MS"/>
                        </a:rPr>
                        <a:t>A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70c0"/>
                          </a:solidFill>
                          <a:latin typeface="Trebuchet MS"/>
                        </a:rPr>
                        <a:t>State whether or not completed and give reasons for any non-comple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037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2540160"/>
                          <a:tab algn="l" pos="41148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...........................................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037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2540160"/>
                          <a:tab algn="l" pos="41148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...........................................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037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2540160"/>
                          <a:tab algn="l" pos="41148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...........................................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037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2540160"/>
                          <a:tab algn="l" pos="41148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...........................................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037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2540160"/>
                          <a:tab algn="l" pos="41148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...........................................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037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2540160"/>
                          <a:tab algn="l" pos="41148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...........................................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9" name="TextBox 6"/>
          <p:cNvSpPr/>
          <p:nvPr/>
        </p:nvSpPr>
        <p:spPr>
          <a:xfrm>
            <a:off x="571680" y="3571920"/>
            <a:ext cx="7143480" cy="19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53735"/>
                </a:solidFill>
                <a:latin typeface="Tekton Pro"/>
              </a:rPr>
              <a:t>9- Action plan for academic year 200X - 200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rebuchet MS"/>
              </a:rPr>
              <a:t>Actions required</a:t>
            </a: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en-US" sz="1200" spc="-1" strike="noStrike">
                <a:solidFill>
                  <a:srgbClr val="3333cc"/>
                </a:solidFill>
                <a:latin typeface="Trebuchet MS"/>
              </a:rPr>
              <a:t>Completion date   </a:t>
            </a:r>
            <a:r>
              <a:rPr b="0" lang="en-US" sz="1200" spc="-1" strike="noStrike">
                <a:solidFill>
                  <a:srgbClr val="403152"/>
                </a:solidFill>
                <a:latin typeface="Trebuchet MS"/>
              </a:rPr>
              <a:t>Person respon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3152"/>
                </a:solidFill>
                <a:latin typeface="Trebuchet MS"/>
              </a:rPr>
              <a:t>-Issues and actions requ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3152"/>
                </a:solidFill>
                <a:latin typeface="Trebuchet MS"/>
              </a:rPr>
              <a:t>-Time sched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3152"/>
                </a:solidFill>
                <a:latin typeface="Trebuchet MS"/>
              </a:rPr>
              <a:t>-Person(s) responsible for successful achievement of specified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356760" y="1714680"/>
            <a:ext cx="7239240" cy="48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928800" y="500040"/>
          <a:ext cx="6095880" cy="4149720"/>
        </p:xfrm>
        <a:graphic>
          <a:graphicData uri="http://schemas.openxmlformats.org/drawingml/2006/table">
            <a:tbl>
              <a:tblPr/>
              <a:tblGrid>
                <a:gridCol w="3071880"/>
                <a:gridCol w="1428480"/>
                <a:gridCol w="15955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Completion 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Person responsi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Implementation of guidelines for written and oral exa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eptember 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ead of department and staff memb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ividing students in small grou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equest for more comput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equest for data show and microscop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evision of practical sess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evision of some departments lectu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equest for more lab facilit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onitoring if ILOS are matched with teaching and assess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302" name="Rectangle 4" descr=""/>
          <p:cNvPicPr/>
          <p:nvPr/>
        </p:nvPicPr>
        <p:blipFill>
          <a:blip r:embed="rId1"/>
          <a:stretch/>
        </p:blipFill>
        <p:spPr>
          <a:xfrm>
            <a:off x="396720" y="4919760"/>
            <a:ext cx="646776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367080" y="533520"/>
            <a:ext cx="5105520" cy="2868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305" name="Picture 3" descr="Water lilies.jpg"/>
          <p:cNvPicPr/>
          <p:nvPr/>
        </p:nvPicPr>
        <p:blipFill>
          <a:blip r:embed="rId1"/>
          <a:stretch/>
        </p:blipFill>
        <p:spPr>
          <a:xfrm>
            <a:off x="1523880" y="5716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306" name="TextBox 4"/>
          <p:cNvSpPr/>
          <p:nvPr/>
        </p:nvSpPr>
        <p:spPr>
          <a:xfrm>
            <a:off x="0" y="928800"/>
            <a:ext cx="635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rebuchet MS"/>
                <a:ea typeface="Tahoma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Title 1" descr=""/>
          <p:cNvPicPr/>
          <p:nvPr/>
        </p:nvPicPr>
        <p:blipFill>
          <a:blip r:embed="rId1"/>
          <a:stretch/>
        </p:blipFill>
        <p:spPr>
          <a:xfrm>
            <a:off x="1779480" y="530280"/>
            <a:ext cx="7255080" cy="287820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2500200" y="3540240"/>
            <a:ext cx="51436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Hematology Department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Flowchart: Terminator 15"/>
          <p:cNvGrpSpPr/>
          <p:nvPr/>
        </p:nvGrpSpPr>
        <p:grpSpPr>
          <a:xfrm>
            <a:off x="444600" y="1755720"/>
            <a:ext cx="1676160" cy="397080"/>
            <a:chOff x="444600" y="1755720"/>
            <a:chExt cx="1676160" cy="397080"/>
          </a:xfrm>
        </p:grpSpPr>
        <p:pic>
          <p:nvPicPr>
            <p:cNvPr id="228" name="Flowchart: Terminator 15" descr=""/>
            <p:cNvPicPr/>
            <p:nvPr/>
          </p:nvPicPr>
          <p:blipFill>
            <a:blip r:embed="rId1"/>
            <a:stretch/>
          </p:blipFill>
          <p:spPr>
            <a:xfrm>
              <a:off x="444600" y="1755720"/>
              <a:ext cx="1676160" cy="3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574560" y="1827360"/>
              <a:ext cx="142236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Vertical Scroll 12"/>
          <p:cNvSpPr/>
          <p:nvPr/>
        </p:nvSpPr>
        <p:spPr>
          <a:xfrm>
            <a:off x="785880" y="142920"/>
            <a:ext cx="6643800" cy="6429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99aed1"/>
              </a:gs>
              <a:gs pos="100000">
                <a:srgbClr val="6690ce"/>
              </a:gs>
            </a:gsLst>
            <a:lin ang="5400000"/>
          </a:gradFill>
          <a:ln w="11520">
            <a:solidFill>
              <a:srgbClr val="4f81bd"/>
            </a:solidFill>
            <a:miter/>
          </a:ln>
          <a:effectLst>
            <a:outerShdw dist="12600" dir="5400000" blurRad="0" rotWithShape="0">
              <a:srgbClr val="2d4c72">
                <a:alpha val="8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Title 1" descr=""/>
          <p:cNvPicPr/>
          <p:nvPr/>
        </p:nvPicPr>
        <p:blipFill>
          <a:blip r:embed="rId2"/>
          <a:stretch/>
        </p:blipFill>
        <p:spPr>
          <a:xfrm>
            <a:off x="689040" y="85680"/>
            <a:ext cx="6626160" cy="1206720"/>
          </a:xfrm>
          <a:prstGeom prst="rect">
            <a:avLst/>
          </a:prstGeom>
          <a:ln w="0">
            <a:noFill/>
          </a:ln>
        </p:spPr>
      </p:pic>
      <p:pic>
        <p:nvPicPr>
          <p:cNvPr id="232" name="Content Placeholder 2" descr=""/>
          <p:cNvPicPr/>
          <p:nvPr/>
        </p:nvPicPr>
        <p:blipFill>
          <a:blip r:embed="rId3"/>
          <a:stretch/>
        </p:blipFill>
        <p:spPr>
          <a:xfrm>
            <a:off x="438120" y="1036800"/>
            <a:ext cx="7267680" cy="5254560"/>
          </a:xfrm>
          <a:prstGeom prst="rect">
            <a:avLst/>
          </a:prstGeom>
          <a:ln w="0">
            <a:noFill/>
          </a:ln>
        </p:spPr>
      </p:pic>
      <p:sp>
        <p:nvSpPr>
          <p:cNvPr id="233" name="Rounded Rectangle 8"/>
          <p:cNvSpPr/>
          <p:nvPr/>
        </p:nvSpPr>
        <p:spPr>
          <a:xfrm>
            <a:off x="1857240" y="3357720"/>
            <a:ext cx="428760" cy="214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Trebuchet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ounded Rectangle 9"/>
          <p:cNvSpPr/>
          <p:nvPr/>
        </p:nvSpPr>
        <p:spPr>
          <a:xfrm>
            <a:off x="4572000" y="3357720"/>
            <a:ext cx="428760" cy="214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Trebuchet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ounded Rectangle 10"/>
          <p:cNvSpPr/>
          <p:nvPr/>
        </p:nvSpPr>
        <p:spPr>
          <a:xfrm>
            <a:off x="6643800" y="3357720"/>
            <a:ext cx="428400" cy="214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Trebuchet MS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Content Placeholder 10" descr="ExposureDraft3.jpg"/>
          <p:cNvPicPr/>
          <p:nvPr/>
        </p:nvPicPr>
        <p:blipFill>
          <a:blip r:embed="rId4"/>
          <a:stretch/>
        </p:blipFill>
        <p:spPr>
          <a:xfrm>
            <a:off x="5065560" y="4352760"/>
            <a:ext cx="2438640" cy="18828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7" name=""/>
          <p:cNvGraphicFramePr/>
          <p:nvPr/>
        </p:nvGraphicFramePr>
        <p:xfrm>
          <a:off x="214200" y="1500120"/>
          <a:ext cx="7715520" cy="3903840"/>
        </p:xfrm>
        <a:graphic>
          <a:graphicData uri="http://schemas.openxmlformats.org/drawingml/2006/table">
            <a:tbl>
              <a:tblPr/>
              <a:tblGrid>
                <a:gridCol w="2247840"/>
                <a:gridCol w="1059120"/>
                <a:gridCol w="1101600"/>
                <a:gridCol w="1101600"/>
                <a:gridCol w="1103400"/>
                <a:gridCol w="1101960"/>
              </a:tblGrid>
              <a:tr h="5414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990099"/>
                          </a:solidFill>
                          <a:latin typeface="Trebuchet MS"/>
                        </a:rPr>
                        <a:t>No. of students attending the course</a:t>
                      </a:r>
                      <a:r>
                        <a:rPr b="0" lang="en-US" sz="1200" spc="-1" strike="noStrike">
                          <a:solidFill>
                            <a:srgbClr val="990099"/>
                          </a:solidFill>
                          <a:latin typeface="Trebuchet MS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990099"/>
                          </a:solidFill>
                          <a:latin typeface="Trebuchet MS"/>
                        </a:rPr>
                        <a:t>No. of students completing the course</a:t>
                      </a:r>
                      <a:r>
                        <a:rPr b="0" lang="en-US" sz="1200" spc="-1" strike="noStrike">
                          <a:solidFill>
                            <a:srgbClr val="990099"/>
                          </a:solidFill>
                          <a:latin typeface="Trebuchet MS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Results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Passed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aile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12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58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Grading of successful students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Excellent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Very Goo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Good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 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as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38" name="Flowchart: Terminator 8"/>
          <p:cNvGrpSpPr/>
          <p:nvPr/>
        </p:nvGrpSpPr>
        <p:grpSpPr>
          <a:xfrm>
            <a:off x="371520" y="255600"/>
            <a:ext cx="1963800" cy="396720"/>
            <a:chOff x="371520" y="255600"/>
            <a:chExt cx="1963800" cy="396720"/>
          </a:xfrm>
        </p:grpSpPr>
        <p:pic>
          <p:nvPicPr>
            <p:cNvPr id="239" name="Flowchart: Terminator 8" descr=""/>
            <p:cNvPicPr/>
            <p:nvPr/>
          </p:nvPicPr>
          <p:blipFill>
            <a:blip r:embed="rId1"/>
            <a:stretch/>
          </p:blipFill>
          <p:spPr>
            <a:xfrm>
              <a:off x="371520" y="255600"/>
              <a:ext cx="196380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515880" y="326880"/>
              <a:ext cx="168264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TextBox 11"/>
          <p:cNvSpPr/>
          <p:nvPr/>
        </p:nvSpPr>
        <p:spPr>
          <a:xfrm>
            <a:off x="357120" y="285840"/>
            <a:ext cx="221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erlin Sans FB Demi"/>
                <a:ea typeface="Tahoma"/>
              </a:rPr>
              <a:t>B-</a:t>
            </a:r>
            <a:r>
              <a:rPr b="0" lang="en-US" sz="1200" spc="-1" strike="noStrike">
                <a:solidFill>
                  <a:srgbClr val="ffffff"/>
                </a:solidFill>
                <a:latin typeface="Berlin Sans FB Demi"/>
                <a:ea typeface="Tahoma"/>
              </a:rPr>
              <a:t> Statistical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ounded Rectangle 13"/>
          <p:cNvSpPr/>
          <p:nvPr/>
        </p:nvSpPr>
        <p:spPr>
          <a:xfrm>
            <a:off x="6143760" y="1571760"/>
            <a:ext cx="500040" cy="214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99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ounded Rectangle 17"/>
          <p:cNvSpPr/>
          <p:nvPr/>
        </p:nvSpPr>
        <p:spPr>
          <a:xfrm>
            <a:off x="6143760" y="2143080"/>
            <a:ext cx="500040" cy="214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99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ounded Rectangle 18"/>
          <p:cNvSpPr/>
          <p:nvPr/>
        </p:nvSpPr>
        <p:spPr>
          <a:xfrm>
            <a:off x="7143840" y="1571760"/>
            <a:ext cx="500040" cy="214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99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ounded Rectangle 19"/>
          <p:cNvSpPr/>
          <p:nvPr/>
        </p:nvSpPr>
        <p:spPr>
          <a:xfrm>
            <a:off x="7143840" y="2143080"/>
            <a:ext cx="500040" cy="214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99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ounded Rectangle 20"/>
          <p:cNvSpPr/>
          <p:nvPr/>
        </p:nvSpPr>
        <p:spPr>
          <a:xfrm>
            <a:off x="3000240" y="3214800"/>
            <a:ext cx="500040" cy="214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99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ounded Rectangle 21"/>
          <p:cNvSpPr/>
          <p:nvPr/>
        </p:nvSpPr>
        <p:spPr>
          <a:xfrm>
            <a:off x="3929040" y="3214800"/>
            <a:ext cx="500040" cy="214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99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ounded Rectangle 22"/>
          <p:cNvSpPr/>
          <p:nvPr/>
        </p:nvSpPr>
        <p:spPr>
          <a:xfrm>
            <a:off x="6143760" y="3214800"/>
            <a:ext cx="500040" cy="214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99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ounded Rectangle 23"/>
          <p:cNvSpPr/>
          <p:nvPr/>
        </p:nvSpPr>
        <p:spPr>
          <a:xfrm>
            <a:off x="7143840" y="3214800"/>
            <a:ext cx="500040" cy="214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99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ounded Rectangle 24"/>
          <p:cNvSpPr/>
          <p:nvPr/>
        </p:nvSpPr>
        <p:spPr>
          <a:xfrm>
            <a:off x="3000240" y="4143240"/>
            <a:ext cx="500040" cy="214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99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ounded Rectangle 25"/>
          <p:cNvSpPr/>
          <p:nvPr/>
        </p:nvSpPr>
        <p:spPr>
          <a:xfrm>
            <a:off x="3929040" y="4143240"/>
            <a:ext cx="500040" cy="214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99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ounded Rectangle 26"/>
          <p:cNvSpPr/>
          <p:nvPr/>
        </p:nvSpPr>
        <p:spPr>
          <a:xfrm>
            <a:off x="7143840" y="4143240"/>
            <a:ext cx="500040" cy="214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99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ounded Rectangle 27"/>
          <p:cNvSpPr/>
          <p:nvPr/>
        </p:nvSpPr>
        <p:spPr>
          <a:xfrm>
            <a:off x="6143760" y="4143240"/>
            <a:ext cx="500040" cy="214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99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ounded Rectangle 28"/>
          <p:cNvSpPr/>
          <p:nvPr/>
        </p:nvSpPr>
        <p:spPr>
          <a:xfrm>
            <a:off x="3929040" y="4857840"/>
            <a:ext cx="500040" cy="214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99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ounded Rectangle 29"/>
          <p:cNvSpPr/>
          <p:nvPr/>
        </p:nvSpPr>
        <p:spPr>
          <a:xfrm>
            <a:off x="3000240" y="4857840"/>
            <a:ext cx="500040" cy="214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99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ounded Rectangle 30"/>
          <p:cNvSpPr/>
          <p:nvPr/>
        </p:nvSpPr>
        <p:spPr>
          <a:xfrm>
            <a:off x="6143760" y="4786200"/>
            <a:ext cx="500040" cy="214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99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ounded Rectangle 31"/>
          <p:cNvSpPr/>
          <p:nvPr/>
        </p:nvSpPr>
        <p:spPr>
          <a:xfrm>
            <a:off x="7143840" y="4786200"/>
            <a:ext cx="500040" cy="214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99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Flowchart: Terminator 5"/>
          <p:cNvGrpSpPr/>
          <p:nvPr/>
        </p:nvGrpSpPr>
        <p:grpSpPr>
          <a:xfrm>
            <a:off x="231840" y="328680"/>
            <a:ext cx="2176560" cy="390600"/>
            <a:chOff x="231840" y="328680"/>
            <a:chExt cx="2176560" cy="390600"/>
          </a:xfrm>
        </p:grpSpPr>
        <p:pic>
          <p:nvPicPr>
            <p:cNvPr id="259" name="Flowchart: Terminator 5" descr=""/>
            <p:cNvPicPr/>
            <p:nvPr/>
          </p:nvPicPr>
          <p:blipFill>
            <a:blip r:embed="rId1"/>
            <a:stretch/>
          </p:blipFill>
          <p:spPr>
            <a:xfrm>
              <a:off x="231840" y="328680"/>
              <a:ext cx="2176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382680" y="398520"/>
              <a:ext cx="187632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TextBox 3"/>
          <p:cNvSpPr/>
          <p:nvPr/>
        </p:nvSpPr>
        <p:spPr>
          <a:xfrm>
            <a:off x="285840" y="357120"/>
            <a:ext cx="25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erlin Sans FB Demi"/>
                <a:ea typeface="Tahoma"/>
              </a:rPr>
              <a:t>C-</a:t>
            </a:r>
            <a:r>
              <a:rPr b="0" lang="en-US" sz="1200" spc="-1" strike="noStrike">
                <a:solidFill>
                  <a:srgbClr val="ffffff"/>
                </a:solidFill>
                <a:latin typeface="Berlin Sans FB Demi"/>
                <a:ea typeface="Tahoma"/>
              </a:rPr>
              <a:t> Professional Information</a:t>
            </a:r>
            <a:r>
              <a:rPr b="0" lang="en-US" sz="1200" spc="-1" strike="noStrike">
                <a:solidFill>
                  <a:srgbClr val="ffffff"/>
                </a:solidFill>
                <a:latin typeface="Berlin Sans FB Demi"/>
                <a:ea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6"/>
          <p:cNvSpPr/>
          <p:nvPr/>
        </p:nvSpPr>
        <p:spPr>
          <a:xfrm>
            <a:off x="357120" y="714240"/>
            <a:ext cx="1928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53735"/>
                </a:solidFill>
                <a:latin typeface="Tekton Pro"/>
              </a:rPr>
              <a:t>1</a:t>
            </a:r>
            <a:r>
              <a:rPr b="1" lang="en-US" sz="1400" spc="-1" strike="noStrike">
                <a:solidFill>
                  <a:srgbClr val="953735"/>
                </a:solidFill>
                <a:latin typeface="Tekton Pro"/>
              </a:rPr>
              <a:t> - </a:t>
            </a:r>
            <a:r>
              <a:rPr b="1" lang="en-US" sz="1400" spc="-1" strike="noStrike">
                <a:solidFill>
                  <a:srgbClr val="953735"/>
                </a:solidFill>
                <a:latin typeface="Tekton Pro"/>
              </a:rPr>
              <a:t>Course teaching</a:t>
            </a:r>
            <a:r>
              <a:rPr b="1" lang="en-US" sz="1400" spc="-1" strike="noStrike">
                <a:solidFill>
                  <a:srgbClr val="953735"/>
                </a:solidFill>
                <a:latin typeface="Tekton Pro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1071720" y="1143000"/>
          <a:ext cx="6095880" cy="237168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  <a:gridCol w="20322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0099"/>
                          </a:solidFill>
                          <a:latin typeface="Papyrus"/>
                        </a:rPr>
                        <a:t>Topics actually tau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0099"/>
                          </a:solidFill>
                          <a:latin typeface="Papyrus"/>
                        </a:rPr>
                        <a:t>No. of hou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0099"/>
                          </a:solidFill>
                          <a:latin typeface="Papyrus"/>
                        </a:rPr>
                        <a:t>Lectur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ectu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ll Staff memb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emina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Journal clu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ractic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utor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4" name="TextBox 10"/>
          <p:cNvSpPr/>
          <p:nvPr/>
        </p:nvSpPr>
        <p:spPr>
          <a:xfrm>
            <a:off x="428760" y="3643200"/>
            <a:ext cx="7000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  <a:ea typeface="Tahoma"/>
              </a:rPr>
              <a:t>Topics taught as a percentage of the content specified</a:t>
            </a:r>
            <a:r>
              <a:rPr b="0" lang="en-US" sz="1200" spc="-1" strike="noStrike">
                <a:solidFill>
                  <a:srgbClr val="000000"/>
                </a:solidFill>
                <a:latin typeface="Trebuchet MS"/>
                <a:ea typeface="Tahoma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ahom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571680" y="3929040"/>
          <a:ext cx="6095880" cy="371520"/>
        </p:xfrm>
        <a:graphic>
          <a:graphicData uri="http://schemas.openxmlformats.org/drawingml/2006/table">
            <a:tbl>
              <a:tblPr/>
              <a:tblGrid>
                <a:gridCol w="1015920"/>
                <a:gridCol w="1015920"/>
                <a:gridCol w="1015920"/>
                <a:gridCol w="1015920"/>
                <a:gridCol w="1016280"/>
                <a:gridCol w="1015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&gt;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0-9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&lt;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6" name="Rounded Rectangle 15"/>
          <p:cNvSpPr/>
          <p:nvPr/>
        </p:nvSpPr>
        <p:spPr>
          <a:xfrm>
            <a:off x="1857240" y="4000680"/>
            <a:ext cx="500040" cy="214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99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800" spc="-1" strike="noStrike">
                <a:solidFill>
                  <a:srgbClr val="000000"/>
                </a:solidFill>
                <a:latin typeface="Trebuchet MS"/>
                <a:ea typeface="Tahoma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ounded Rectangle 16"/>
          <p:cNvSpPr/>
          <p:nvPr/>
        </p:nvSpPr>
        <p:spPr>
          <a:xfrm>
            <a:off x="5929200" y="4000680"/>
            <a:ext cx="500040" cy="214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99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ounded Rectangle 17"/>
          <p:cNvSpPr/>
          <p:nvPr/>
        </p:nvSpPr>
        <p:spPr>
          <a:xfrm>
            <a:off x="3857760" y="4000680"/>
            <a:ext cx="500040" cy="214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99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19"/>
          <p:cNvSpPr/>
          <p:nvPr/>
        </p:nvSpPr>
        <p:spPr>
          <a:xfrm>
            <a:off x="571680" y="4500720"/>
            <a:ext cx="6929280" cy="19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  <a:ea typeface="Tahoma"/>
              </a:rPr>
              <a:t>Reasons in detail for not teaching any top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  <a:ea typeface="Tahoma"/>
              </a:rPr>
              <a:t>………………………………………</a:t>
            </a:r>
            <a:r>
              <a:rPr b="0" lang="en-US" sz="1200" spc="-1" strike="noStrike">
                <a:solidFill>
                  <a:srgbClr val="000000"/>
                </a:solidFill>
                <a:latin typeface="Trebuchet MS"/>
                <a:ea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  <a:ea typeface="Tahoma"/>
              </a:rPr>
              <a:t>………………………………………</a:t>
            </a:r>
            <a:r>
              <a:rPr b="0" lang="en-US" sz="1200" spc="-1" strike="noStrike">
                <a:solidFill>
                  <a:srgbClr val="000000"/>
                </a:solidFill>
                <a:latin typeface="Trebuchet MS"/>
                <a:ea typeface="Tahoma"/>
              </a:rPr>
              <a:t>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rebuchet MS"/>
                <a:ea typeface="Tahoma"/>
              </a:rPr>
              <a:t>………………………………………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  <a:ea typeface="Tahoma"/>
              </a:rPr>
              <a:t>If any topics were taught which are not specified, give reasons in detai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ahom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-27360" y="214200"/>
            <a:ext cx="327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53735"/>
                </a:solidFill>
                <a:latin typeface="Tekton Pro"/>
              </a:rPr>
              <a:t>2</a:t>
            </a:r>
            <a:r>
              <a:rPr b="1" lang="en-US" sz="1400" spc="-1" strike="noStrike">
                <a:solidFill>
                  <a:srgbClr val="953735"/>
                </a:solidFill>
                <a:latin typeface="Tekton Pro"/>
              </a:rPr>
              <a:t>- </a:t>
            </a:r>
            <a:r>
              <a:rPr b="1" lang="en-US" sz="1400" spc="-1" strike="noStrike">
                <a:solidFill>
                  <a:srgbClr val="953735"/>
                </a:solidFill>
                <a:latin typeface="Tekton Pro"/>
              </a:rPr>
              <a:t>Teaching and learning methods</a:t>
            </a:r>
            <a:r>
              <a:rPr b="1" lang="en-US" sz="1400" spc="-1" strike="noStrike">
                <a:solidFill>
                  <a:srgbClr val="953735"/>
                </a:solidFill>
                <a:latin typeface="Tekton Pro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1071720" y="642960"/>
          <a:ext cx="6095880" cy="1854000"/>
        </p:xfrm>
        <a:graphic>
          <a:graphicData uri="http://schemas.openxmlformats.org/drawingml/2006/table">
            <a:tbl>
              <a:tblPr/>
              <a:tblGrid>
                <a:gridCol w="3581280"/>
                <a:gridCol w="25146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ecture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ractical training/ laborator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eminar/Workshop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lass activit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ase Stud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2" name="Rounded Rectangle 6"/>
          <p:cNvSpPr/>
          <p:nvPr/>
        </p:nvSpPr>
        <p:spPr>
          <a:xfrm>
            <a:off x="5643720" y="714240"/>
            <a:ext cx="571320" cy="214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99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800" spc="-1" strike="noStrike">
                <a:solidFill>
                  <a:srgbClr val="000000"/>
                </a:solidFill>
                <a:latin typeface="Trebuchet MS"/>
                <a:ea typeface="Tahoma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ounded Rectangle 7"/>
          <p:cNvSpPr/>
          <p:nvPr/>
        </p:nvSpPr>
        <p:spPr>
          <a:xfrm>
            <a:off x="5643720" y="1071720"/>
            <a:ext cx="571320" cy="214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99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800" spc="-1" strike="noStrike">
                <a:solidFill>
                  <a:srgbClr val="000000"/>
                </a:solidFill>
                <a:latin typeface="Trebuchet MS"/>
                <a:ea typeface="Tahoma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ounded Rectangle 8"/>
          <p:cNvSpPr/>
          <p:nvPr/>
        </p:nvSpPr>
        <p:spPr>
          <a:xfrm>
            <a:off x="5643720" y="1500120"/>
            <a:ext cx="571320" cy="214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99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800" spc="-1" strike="noStrike">
                <a:solidFill>
                  <a:srgbClr val="000000"/>
                </a:solidFill>
                <a:latin typeface="Trebuchet MS"/>
                <a:ea typeface="Tahoma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ounded Rectangle 9"/>
          <p:cNvSpPr/>
          <p:nvPr/>
        </p:nvSpPr>
        <p:spPr>
          <a:xfrm>
            <a:off x="5643720" y="1857240"/>
            <a:ext cx="571320" cy="214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99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ounded Rectangle 10"/>
          <p:cNvSpPr/>
          <p:nvPr/>
        </p:nvSpPr>
        <p:spPr>
          <a:xfrm>
            <a:off x="5643720" y="2214720"/>
            <a:ext cx="571320" cy="214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99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11"/>
          <p:cNvSpPr/>
          <p:nvPr/>
        </p:nvSpPr>
        <p:spPr>
          <a:xfrm>
            <a:off x="1071720" y="2571840"/>
            <a:ext cx="607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  <a:ea typeface="Tahoma"/>
              </a:rPr>
              <a:t>Other assignments/homework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  <a:ea typeface="Tahoma"/>
              </a:rPr>
              <a:t>If teaching and learning methods were used other than those specified, list and give reason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2"/>
          <p:cNvSpPr/>
          <p:nvPr/>
        </p:nvSpPr>
        <p:spPr>
          <a:xfrm>
            <a:off x="313920" y="3286080"/>
            <a:ext cx="224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53735"/>
                </a:solidFill>
                <a:latin typeface="Tekton Pro"/>
              </a:rPr>
              <a:t>3</a:t>
            </a:r>
            <a:r>
              <a:rPr b="1" lang="en-US" sz="1400" spc="-1" strike="noStrike">
                <a:solidFill>
                  <a:srgbClr val="953735"/>
                </a:solidFill>
                <a:latin typeface="Tekton Pro"/>
              </a:rPr>
              <a:t>- </a:t>
            </a:r>
            <a:r>
              <a:rPr b="1" lang="en-US" sz="1400" spc="-1" strike="noStrike">
                <a:solidFill>
                  <a:srgbClr val="953735"/>
                </a:solidFill>
                <a:latin typeface="Tekton Pro"/>
              </a:rPr>
              <a:t>Student assessment</a:t>
            </a:r>
            <a:r>
              <a:rPr b="1" lang="en-US" sz="1400" spc="-1" strike="noStrike">
                <a:solidFill>
                  <a:srgbClr val="953735"/>
                </a:solidFill>
                <a:latin typeface="Tekton Pro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642960" y="3643200"/>
          <a:ext cx="7072200" cy="2082960"/>
        </p:xfrm>
        <a:graphic>
          <a:graphicData uri="http://schemas.openxmlformats.org/drawingml/2006/table">
            <a:tbl>
              <a:tblPr/>
              <a:tblGrid>
                <a:gridCol w="3535200"/>
                <a:gridCol w="3537000"/>
              </a:tblGrid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984807"/>
                          </a:solidFill>
                          <a:latin typeface="Trebuchet MS"/>
                        </a:rPr>
                        <a:t>Method of assess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984807"/>
                          </a:solidFill>
                          <a:latin typeface="Trebuchet MS"/>
                        </a:rPr>
                        <a:t>Percentage of 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ritten examin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Oral examin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ractical/laboratory wor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idterm exam/Other assignments/class wor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0" name="Rounded Rectangle 14"/>
          <p:cNvSpPr/>
          <p:nvPr/>
        </p:nvSpPr>
        <p:spPr>
          <a:xfrm>
            <a:off x="5643720" y="5143680"/>
            <a:ext cx="571320" cy="214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99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ounded Rectangle 15"/>
          <p:cNvSpPr/>
          <p:nvPr/>
        </p:nvSpPr>
        <p:spPr>
          <a:xfrm>
            <a:off x="5643720" y="4786200"/>
            <a:ext cx="571320" cy="214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99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ounded Rectangle 16"/>
          <p:cNvSpPr/>
          <p:nvPr/>
        </p:nvSpPr>
        <p:spPr>
          <a:xfrm>
            <a:off x="5643720" y="4429080"/>
            <a:ext cx="571320" cy="214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99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1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ounded Rectangle 17"/>
          <p:cNvSpPr/>
          <p:nvPr/>
        </p:nvSpPr>
        <p:spPr>
          <a:xfrm>
            <a:off x="5643720" y="4071960"/>
            <a:ext cx="571320" cy="214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99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3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20"/>
          <p:cNvSpPr/>
          <p:nvPr/>
        </p:nvSpPr>
        <p:spPr>
          <a:xfrm>
            <a:off x="928800" y="5811840"/>
            <a:ext cx="685800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rebuchet MS"/>
                <a:ea typeface="Tahoma"/>
              </a:rPr>
              <a:t>Members of examination committe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rebuchet MS"/>
                <a:ea typeface="Tahoma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rebuchet MS"/>
                <a:ea typeface="Tahoma"/>
              </a:rPr>
              <a:t>Role of external evaluat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rebuchet MS"/>
                <a:ea typeface="Tahoma"/>
              </a:rPr>
              <a:t>-The match between the examination and topic taught.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rebuchet MS"/>
                <a:ea typeface="Tahoma"/>
              </a:rPr>
              <a:t>-The distribution of marks and weigh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rebuchet MS"/>
                <a:ea typeface="Tahoma"/>
              </a:rPr>
              <a:t>-Effectiveness of the overall assessments in measuring the achievements of IL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1"/>
          <p:cNvSpPr/>
          <p:nvPr/>
        </p:nvSpPr>
        <p:spPr>
          <a:xfrm>
            <a:off x="407520" y="286200"/>
            <a:ext cx="335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53735"/>
                </a:solidFill>
                <a:latin typeface="Tekton Pro"/>
              </a:rPr>
              <a:t>4</a:t>
            </a:r>
            <a:r>
              <a:rPr b="1" lang="en-US" sz="1400" spc="-1" strike="noStrike">
                <a:solidFill>
                  <a:srgbClr val="953735"/>
                </a:solidFill>
                <a:latin typeface="Tekton Pro"/>
              </a:rPr>
              <a:t>- </a:t>
            </a:r>
            <a:r>
              <a:rPr b="1" lang="en-US" sz="1400" spc="-1" strike="noStrike">
                <a:solidFill>
                  <a:srgbClr val="953735"/>
                </a:solidFill>
                <a:latin typeface="Tekton Pro"/>
              </a:rPr>
              <a:t>Facilities and teaching materials</a:t>
            </a:r>
            <a:r>
              <a:rPr b="1" lang="en-US" sz="1400" spc="-1" strike="noStrike">
                <a:solidFill>
                  <a:srgbClr val="953735"/>
                </a:solidFill>
                <a:latin typeface="Tekton Pro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1143000" y="571680"/>
          <a:ext cx="6095880" cy="312408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otally adequ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dequate to some ext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Inadequ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1132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ist any inadequac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ata show projectors are neede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More beds for patients suitable for teaching are need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More microscopes are need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Bank of different types of questions(prepared by specialis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7" name="Rounded Rectangle 10"/>
          <p:cNvSpPr/>
          <p:nvPr/>
        </p:nvSpPr>
        <p:spPr>
          <a:xfrm>
            <a:off x="5429160" y="714240"/>
            <a:ext cx="571680" cy="214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99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ounded Rectangle 11"/>
          <p:cNvSpPr/>
          <p:nvPr/>
        </p:nvSpPr>
        <p:spPr>
          <a:xfrm>
            <a:off x="5429160" y="1000080"/>
            <a:ext cx="571680" cy="214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99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ounded Rectangle 12"/>
          <p:cNvSpPr/>
          <p:nvPr/>
        </p:nvSpPr>
        <p:spPr>
          <a:xfrm>
            <a:off x="5429160" y="1357200"/>
            <a:ext cx="57168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99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800" spc="-1" strike="noStrike">
                <a:solidFill>
                  <a:srgbClr val="000000"/>
                </a:solidFill>
                <a:latin typeface="Trebuchet MS"/>
                <a:ea typeface="Tahoma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14"/>
          <p:cNvSpPr/>
          <p:nvPr/>
        </p:nvSpPr>
        <p:spPr>
          <a:xfrm>
            <a:off x="785880" y="4143240"/>
            <a:ext cx="6786360" cy="26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53735"/>
                </a:solidFill>
                <a:latin typeface="Tekton Pro"/>
              </a:rPr>
              <a:t>5- Administrative constraints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15968"/>
                </a:solidFill>
                <a:latin typeface="Trebuchet MS"/>
              </a:rPr>
              <a:t>List any difficulties encount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.-.State any administrative constraints related to teaching or lear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-Lack of some facilities or f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-Teaching aids ( data show-comput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-Site vis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-Number of students in ex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-Timet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-Unavailability of adequate time for teac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Box 4"/>
          <p:cNvSpPr/>
          <p:nvPr/>
        </p:nvSpPr>
        <p:spPr>
          <a:xfrm>
            <a:off x="642960" y="857160"/>
            <a:ext cx="7000920" cy="16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53735"/>
                </a:solidFill>
                <a:latin typeface="Tekton Pro"/>
              </a:rPr>
              <a:t>6- Student evaluation of the course: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Response of course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List any critic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2"/>
          <p:cNvSpPr/>
          <p:nvPr/>
        </p:nvSpPr>
        <p:spPr>
          <a:xfrm flipV="1">
            <a:off x="214200" y="6429600"/>
            <a:ext cx="757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541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53735"/>
                </a:solidFill>
                <a:latin typeface="Tekton Pro"/>
              </a:rPr>
              <a:t>7- Comments from external evaluator(s)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Response of course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1571760" y="1714680"/>
          <a:ext cx="6095880" cy="5151240"/>
        </p:xfrm>
        <a:graphic>
          <a:graphicData uri="http://schemas.openxmlformats.org/drawingml/2006/table">
            <a:tbl>
              <a:tblPr/>
              <a:tblGrid>
                <a:gridCol w="3357360"/>
                <a:gridCol w="27385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List any criticis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Response of course t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ectures do not cover whole curricul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earrange in the next ye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lear notes and handouts of lectu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equested from teaching sta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ore emphasis on clinical roun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equested from teaching sta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BSENCE OF DEPARTMENT BOO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lanned next ye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ore use of visual teach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udio is need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urriculum is so lo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onsider revise and strict to main objectiv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ore link between academic and clinical teach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ore clinical hints are introduced in teach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Overlap subjec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onsider revi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lassroom crowdiness and not air-condition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onsider next ye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id-term exam time is near final final ex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sk dean to discuss problem and try short term solu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ime allowed for final written exam is insuffici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onsider next ye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 algn="r" rtl="1">
              <a:spcBef>
                <a:spcPts val="499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 algn="r" rtl="1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1523880" y="1397160"/>
          <a:ext cx="6096240" cy="229068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List any criticis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Response of course t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5008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bsent practical or clinical teach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onsider next ye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4864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ractical time is limi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onsider next ye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4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Inappropriate teaching aid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borator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onsider next ye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8T07:52:59Z</dcterms:created>
  <dc:creator>Bugs Bunny</dc:creator>
  <dc:description/>
  <dc:language>en-US</dc:language>
  <cp:lastModifiedBy>1</cp:lastModifiedBy>
  <dcterms:modified xsi:type="dcterms:W3CDTF">2010-07-12T14:09:13Z</dcterms:modified>
  <cp:revision>100</cp:revision>
  <dc:subject/>
  <dc:title>Slide 1</dc:title>
</cp:coreProperties>
</file>